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79F-CB7D-433F-BD1D-CA70BDA6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0CA-F1AC-4B49-BDF0-44D8DBD9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8A0-1405-43C6-A202-DE225B01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818-AAEB-419F-9ADB-CDD33491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BFB-F684-4562-8AEF-31DA3DC8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7D9-D9BC-424E-A4A7-06EFEBEC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905-D8FC-4C32-8F00-F238FAC8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CF0-EB1E-4B88-BC0C-9F0C0FC0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390-6807-47E8-AF0C-4A04D8F0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50B-9C6D-4D36-8ABB-CC826DE1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091-E81F-4EED-9D7B-7DF66285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14F-F658-457D-806A-EDA52778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A20C-9346-4D7E-BFC0-975C68143E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62373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user</cp:lastModifiedBy>
  <dcterms:modified xsi:type="dcterms:W3CDTF">2017-08-21T09:02:04Z</dcterms:modified>
  <cp:revision>13</cp:revision>
  <dc:subject/>
  <dc:title>Слайд 1</dc:title>
</cp:coreProperties>
</file>